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295-FA8B-4FFE-9FD3-80135F41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5003-517A-45DC-AACB-64732BBB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D991-C01B-4F54-A407-A6C615E5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11F-56E0-41D5-838B-60BCF389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373E-F60F-48C5-A695-0C0AF267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84B-E0C2-43B6-9C1C-596544F2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D1E-97EA-4B75-A38F-17A59464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2C9-74D4-4D1F-8FA0-BD8C6147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D8A-6B97-472A-9011-65F83B58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5EF5-A92A-4E49-8264-BE1F02DC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698-2781-41B5-B822-2034402C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A5A-48A7-42C3-897A-74654FFE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1AB9-EB83-4C3E-A78E-A640B9B53D0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The image “file:///C:/Dokumente%20und%20Einstellungen/cremer/Eigene%20Dateien/Letizia/Bilder/M060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2341440" y="268200"/>
            <a:ext cx="44802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The image “file:///C:/Dokumente%20und%20Einstellungen/cremer/Eigene%20Dateien/Letizia/Bilder/M0603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606600" y="120600"/>
            <a:ext cx="793260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181080"/>
            <a:ext cx="7696080" cy="6559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0:55:05Z</dcterms:created>
  <dc:creator>cremer</dc:creator>
  <dc:description/>
  <dc:language>en-US</dc:language>
  <cp:lastModifiedBy>Uti</cp:lastModifiedBy>
  <dcterms:modified xsi:type="dcterms:W3CDTF">2007-05-30T10:02:48Z</dcterms:modified>
  <cp:revision>6</cp:revision>
  <dc:subject/>
  <dc:title>Folie 1</dc:title>
</cp:coreProperties>
</file>