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A66-EC1A-47D2-8C63-6F67AC18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E0A-A212-42FD-87B5-FAD5D9AD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3B4-9366-444A-88A2-B2E65A89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E2C-5174-4190-A672-3D3AEE5E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CFC-2306-4821-8384-0984F733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42B-5C1B-48D5-82DA-3880F240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8ED-5804-4871-8072-6C2EF5C5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29D-1D15-40B7-809C-E1CBC634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979-818F-4710-B28A-D08B74CB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1AC-9A98-4E08-98D0-4F647FD1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FF8-D928-4737-9907-D20E6576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7C6-71F6-4D9B-9476-053DAF2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1A4F-3281-4514-88F0-F8C13816A3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he image “file:///C:/Dokumente%20und%20Einstellungen/cremer/Eigene%20Dateien/Letizia/Bilder/M060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2341440" y="268200"/>
            <a:ext cx="44802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The image “file:///C:/Dokumente%20und%20Einstellungen/cremer/Eigene%20Dateien/Letizia/Bilder/M0603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06600" y="120600"/>
            <a:ext cx="79326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181080"/>
            <a:ext cx="7696080" cy="655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0:55:05Z</dcterms:created>
  <dc:creator>cremer</dc:creator>
  <dc:description/>
  <dc:language>en-US</dc:language>
  <cp:lastModifiedBy>Uti</cp:lastModifiedBy>
  <dcterms:modified xsi:type="dcterms:W3CDTF">2007-05-30T10:02:48Z</dcterms:modified>
  <cp:revision>6</cp:revision>
  <dc:subject/>
  <dc:title>Folie 1</dc:title>
</cp:coreProperties>
</file>