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66C-ECC0-4D93-954B-DEC70CE0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241-2663-4331-9DD7-C19BC007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680-F9A9-4083-8A1A-803E7CB6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E86-F8F4-4D50-9895-71428C5A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0A9-4587-4E76-B5A5-C37F8D2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D57-CC1A-47A1-9596-8160B49A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051-4B17-4DB1-9BC3-250701BD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6A3-5F9D-42CB-8724-A5AB8334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F50-D66E-49AE-9BA7-5FE07319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4C8-6AD3-43D9-A05E-EF0746E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A9F-EF77-48D9-97CD-FA8B2539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A51-E8B1-4EFF-B786-1EF53B0B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F68A-6888-4D8B-8780-EBF1C2907D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4080"/>
            <a:ext cx="8076960" cy="65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71118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44360"/>
            <a:ext cx="8305920" cy="662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14480"/>
            <a:ext cx="838224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The image “file:///C:/Dokumente%20und%20Einstellungen/cremer/Eigene%20Dateien/Letizia/Bilder/M060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88960" y="120600"/>
            <a:ext cx="796608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0:56:56Z</dcterms:created>
  <dc:creator>cremer</dc:creator>
  <dc:description/>
  <dc:language>en-US</dc:language>
  <cp:lastModifiedBy>cremer</cp:lastModifiedBy>
  <dcterms:modified xsi:type="dcterms:W3CDTF">2007-05-01T11:01:02Z</dcterms:modified>
  <cp:revision>2</cp:revision>
  <dc:subject/>
  <dc:title>Folie 1</dc:title>
</cp:coreProperties>
</file>