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5E2-CF4D-4899-9DB5-E6908BD9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E2B-44F6-4558-AA43-CDA07364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E7C-B717-4B11-B1AE-B4D48249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2C4-CA4E-44DA-906F-93D10A27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96F-63AD-474F-9E28-C70A30FC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B42-5E50-4E0A-8991-0B8C4C7C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D19-CF74-4609-A9D2-9B972DA9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111-35AC-4ED2-BDF0-A4543A20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658-5260-46BB-AC19-5FBF6AC0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042-9B2D-4F5A-9029-D580664F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1E4-5E58-4E8B-90ED-E52869EA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960-D8AC-47E2-B91D-2647D401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AB15-182D-4BA2-A9F3-5E984CD53E1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54080"/>
            <a:ext cx="8076960" cy="65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711180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44360"/>
            <a:ext cx="8305920" cy="662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14480"/>
            <a:ext cx="838224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The image “file:///C:/Dokumente%20und%20Einstellungen/cremer/Eigene%20Dateien/Letizia/Bilder/M0606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88960" y="120600"/>
            <a:ext cx="796608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0:56:56Z</dcterms:created>
  <dc:creator>cremer</dc:creator>
  <dc:description/>
  <dc:language>en-US</dc:language>
  <cp:lastModifiedBy>cremer</cp:lastModifiedBy>
  <dcterms:modified xsi:type="dcterms:W3CDTF">2007-05-01T11:01:02Z</dcterms:modified>
  <cp:revision>2</cp:revision>
  <dc:subject/>
  <dc:title>Folie 1</dc:title>
</cp:coreProperties>
</file>