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115-6A6F-4220-8354-60F1D3F5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3D2-9388-44E8-8D0A-B6585CD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126-A62E-4BF4-9646-5C2DB8D8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642-20DD-4562-B0C6-12FE4C5A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87A-8EB8-4DE4-A676-345D2CC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DE8-EF5E-44A2-A0F3-FAF934E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085-4B7C-4587-8F26-6D19D96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362-262B-4E1B-9107-E9522544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BC1-131D-4053-B059-F062F4D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C3C-C238-49BC-B80B-FA53042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12F-F810-4564-A2DC-8448D90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660-D0D1-4F02-B013-29764CB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07A-5B5A-45A2-AFC5-2F38D50267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1e1efa"/>
                </a:solidFill>
                <a:latin typeface="Arial"/>
              </a:rPr>
              <a:t>Architecture at Koblenz* by the Rh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Collection Confluencia“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located on loan in the ancient castle (today seat of the state revenue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1e1efa"/>
                </a:solidFill>
                <a:latin typeface="Arial"/>
              </a:rPr>
              <a:t>*</a:t>
            </a: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Roman foundation; In Antiquity Border Town of the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615960"/>
            <a:ext cx="883944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33640"/>
            <a:ext cx="8839440" cy="45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65240" y="152280"/>
            <a:ext cx="51548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55880" y="152280"/>
            <a:ext cx="52322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3824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576360"/>
            <a:ext cx="88394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8120"/>
            <a:ext cx="6629400" cy="659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2920"/>
            <a:ext cx="82296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305920" cy="66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48:41Z</dcterms:created>
  <dc:creator>cremer</dc:creator>
  <dc:description/>
  <dc:language>en-US</dc:language>
  <cp:lastModifiedBy>cremer</cp:lastModifiedBy>
  <dcterms:modified xsi:type="dcterms:W3CDTF">2007-05-01T10:51:44Z</dcterms:modified>
  <cp:revision>3</cp:revision>
  <dc:subject/>
  <dc:title>Folie 1</dc:title>
</cp:coreProperties>
</file>