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C92-0470-4BB5-B585-59E3C591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7BB-71EB-4C94-88F5-7DF0E980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425-F097-461F-B3C1-6C154202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256-20B9-45EF-9B8D-C4461783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3F8-8151-4B7D-B13A-56ADB82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ABA-D74D-4E7E-970C-71C1C0B2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B30-9314-417F-842B-98F90F1B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E63-1899-4210-9B2D-5DC92C38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2A6-1B77-4C99-986E-12737B4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D3C-49CF-4CFC-805E-8B44CBF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E26-050C-4E29-BDC1-4906CA2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CFD-A025-44C9-B6CE-55FBFA35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829-CB13-4E4F-8CE4-D00C520BB8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1e1efa"/>
                </a:solidFill>
                <a:latin typeface="Arial"/>
              </a:rPr>
              <a:t>Architecture at Koblenz* by the Rh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„</a:t>
            </a: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Collection Confluencia“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located on loan in the ancient castle (today seat of the state revenue offi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1e1efa"/>
                </a:solidFill>
                <a:latin typeface="Arial"/>
              </a:rPr>
              <a:t>*</a:t>
            </a:r>
            <a:r>
              <a:rPr b="1" i="1" lang="de-DE" sz="3200" spc="-1" strike="noStrike">
                <a:solidFill>
                  <a:srgbClr val="1e1efa"/>
                </a:solidFill>
                <a:latin typeface="Arial"/>
              </a:rPr>
              <a:t>Roman foundation; In Antiquity Border Town of the Roman Emp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615960"/>
            <a:ext cx="8839440" cy="56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33640"/>
            <a:ext cx="8839440" cy="45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65240" y="152280"/>
            <a:ext cx="51548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55880" y="152280"/>
            <a:ext cx="52322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38240"/>
            <a:ext cx="8229600" cy="65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576360"/>
            <a:ext cx="883944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68120"/>
            <a:ext cx="6629400" cy="659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2920"/>
            <a:ext cx="82296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305920" cy="66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0:48:41Z</dcterms:created>
  <dc:creator>cremer</dc:creator>
  <dc:description/>
  <dc:language>en-US</dc:language>
  <cp:lastModifiedBy>cremer</cp:lastModifiedBy>
  <dcterms:modified xsi:type="dcterms:W3CDTF">2007-05-01T10:51:44Z</dcterms:modified>
  <cp:revision>3</cp:revision>
  <dc:subject/>
  <dc:title>Folie 1</dc:title>
</cp:coreProperties>
</file>