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175D-4A36-473B-8BEF-83F632B70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0FEA-4972-4E68-AF64-AB37986E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8DF0-FB9D-4355-99AE-AB35EE223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2CD4-BD71-4374-AA23-525E6E2A0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BAB5-4F93-4C59-8479-6B56C46D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E85A-FE84-4134-BF0B-36F8A462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C292-270A-4BFB-836F-A192D1F2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3C26-98B7-4D14-8286-64F867D4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C7B7-1C8E-401C-B76F-DA41DFAE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7C40-52DA-40EF-8E18-AFA0D76B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65D1-F441-4F53-B474-ABA12707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8DBD-F6B4-4B1F-8716-3EBEDE75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EA05-15D0-48C6-8023-34F77C891B6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22560" y="152280"/>
            <a:ext cx="4898880" cy="6553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11:02:54Z</dcterms:created>
  <dc:creator>cremer</dc:creator>
  <dc:description/>
  <dc:language>en-US</dc:language>
  <cp:lastModifiedBy>cremer</cp:lastModifiedBy>
  <dcterms:modified xsi:type="dcterms:W3CDTF">2007-05-01T11:05:12Z</dcterms:modified>
  <cp:revision>2</cp:revision>
  <dc:subject/>
  <dc:title>Folie 1</dc:title>
</cp:coreProperties>
</file>