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C02D-AC52-4D9D-A35F-E7594BB7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324C-A027-455F-A691-3E2D9461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1EC-FC0D-45EB-930D-CE3364AC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D56-B87E-42AA-AD5D-42F67091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6339-389E-4817-AC55-EDC13AFD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87B9-10F6-49A1-BE45-7CCF6279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81B6-ADF8-4E89-9AD2-8B213036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2103-0849-4AF2-95BE-1989DD29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F959-057B-4A22-967D-64AAD4B5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CD7-7607-41DB-82CD-BB6EBA56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891-4928-4C55-BE78-992BDEFF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0481-E515-4DFB-9475-A2860DE8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2B3E-279C-4901-BBF1-BB6D2F62ABF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2560" y="152280"/>
            <a:ext cx="4898880" cy="655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1:02:54Z</dcterms:created>
  <dc:creator>cremer</dc:creator>
  <dc:description/>
  <dc:language>en-US</dc:language>
  <cp:lastModifiedBy>cremer</cp:lastModifiedBy>
  <dcterms:modified xsi:type="dcterms:W3CDTF">2007-05-01T11:05:12Z</dcterms:modified>
  <cp:revision>2</cp:revision>
  <dc:subject/>
  <dc:title>Folie 1</dc:title>
</cp:coreProperties>
</file>