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8D59E-606C-4CEB-AED0-2EBAA9B4E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1D26F-E1AF-474B-9E65-C34030D53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7CD2D-5F6A-46BF-9FB5-8B619D233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7536A-BF41-4DE6-AD02-20E76B3D4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7F44-769A-441A-9498-D3BD03901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E86D5-1179-49C7-B2E1-155C62281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5C276-9C55-401C-BEC3-0D2565B4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F57E3-60A1-4C18-B01A-63D840649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41D67-5422-4FEF-90A1-F548C1A0E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EC78-7430-4925-9314-DE4F5AB3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268F-5699-45D1-9D74-45B0C8A6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927E-7403-414C-B9F2-1405EFA7A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2E0E-62C8-4060-9E6A-1520FA8F7A41}"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1523880"/>
            <a:ext cx="8991720" cy="38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Arial"/>
              </a:rPr>
              <a:t>Portraits of the Jackson Laboratory</a:t>
            </a:r>
            <a:endParaRPr b="0" lang="en-US" sz="6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000" spc="-1" strike="noStrike">
                <a:solidFill>
                  <a:srgbClr val="000000"/>
                </a:solidFill>
                <a:latin typeface="Arial"/>
              </a:rPr>
              <a:t>Bar Harbor/ME </a:t>
            </a:r>
            <a:endParaRPr b="0" lang="en-US" sz="40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Letizia-Mancino</a:t>
            </a:r>
            <a:endParaRPr b="0" lang="en-US" sz="4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Some Preliminary Comments on the Paintings I</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Jackson Dream</a:t>
            </a:r>
            <a:r>
              <a:rPr b="0" lang="de-DE" sz="2400" spc="-1" strike="noStrike">
                <a:solidFill>
                  <a:srgbClr val="000000"/>
                </a:solidFill>
                <a:latin typeface="Times New Roman"/>
              </a:rPr>
              <a:t> portraits the Jackson Lab during a beautiful winter night under a starred sky; everybody is sleeping and at peace, even the mi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Then in the morning at the time of the rising sun, the Jackson Lab has to support a heavy winter storm turning everything upside down.This storm  may be also inside the laboratory, as a </a:t>
            </a:r>
            <a:r>
              <a:rPr b="0" i="1" lang="de-DE" sz="2400" spc="-1" strike="noStrike">
                <a:solidFill>
                  <a:srgbClr val="000000"/>
                </a:solidFill>
                <a:latin typeface="Times New Roman"/>
              </a:rPr>
              <a:t>Tempest of Science</a:t>
            </a:r>
            <a:r>
              <a:rPr b="0" lang="de-DE" sz="2400" spc="-1" strike="noStrike">
                <a:solidFill>
                  <a:srgbClr val="000000"/>
                </a:solidFill>
                <a:latin typeface="Times New Roman"/>
              </a:rPr>
              <a:t>: For example, an important manuscript has been returned by the publisher; or a  major grant application has been rejected; or a costly research instrument has a defect,etc.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However, a true scientist is not abated by such problems; his </a:t>
            </a:r>
            <a:r>
              <a:rPr b="0" i="1" lang="de-DE" sz="2400" spc="-1" strike="noStrike">
                <a:solidFill>
                  <a:srgbClr val="000000"/>
                </a:solidFill>
                <a:latin typeface="Times New Roman"/>
              </a:rPr>
              <a:t>Passion of Science,</a:t>
            </a:r>
            <a:r>
              <a:rPr b="0" lang="de-DE" sz="2400" spc="-1" strike="noStrike">
                <a:solidFill>
                  <a:srgbClr val="000000"/>
                </a:solidFill>
                <a:latin typeface="Times New Roman"/>
              </a:rPr>
              <a:t> depicted by a portrait of the Jackson Lab in glowing red delineations on a black background, overcomes all difficulties. In a </a:t>
            </a:r>
            <a:r>
              <a:rPr b="0" i="1" lang="de-DE" sz="2400" spc="-1" strike="noStrike">
                <a:solidFill>
                  <a:srgbClr val="000000"/>
                </a:solidFill>
                <a:latin typeface="Times New Roman"/>
              </a:rPr>
              <a:t>Passion of Science</a:t>
            </a:r>
            <a:r>
              <a:rPr b="0" lang="de-DE" sz="2400" spc="-1" strike="noStrike">
                <a:solidFill>
                  <a:srgbClr val="000000"/>
                </a:solidFill>
                <a:latin typeface="Times New Roman"/>
              </a:rPr>
              <a:t> situation, a scientist may forget everything else, he will even skip an appointment with his young fiancee to finish an exper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28600" y="228600"/>
            <a:ext cx="8686800" cy="743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Some Preliminary Comments on the Paintings 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fter the tempest of science has been opposed successfully by the passion of science, beautiful results are published in Science and Nature, the funding organisations provide plenty of support; then a honey moon period starts not only for men but also for the mice; The </a:t>
            </a:r>
            <a:r>
              <a:rPr b="0" i="1" lang="de-DE" sz="2400" spc="-1" strike="noStrike">
                <a:solidFill>
                  <a:srgbClr val="000000"/>
                </a:solidFill>
                <a:latin typeface="Times New Roman"/>
              </a:rPr>
              <a:t>Honey Moon for Men&amp;Mice</a:t>
            </a:r>
            <a:r>
              <a:rPr b="0" lang="de-DE" sz="2400" spc="-1" strike="noStrike">
                <a:solidFill>
                  <a:srgbClr val="000000"/>
                </a:solidFill>
                <a:latin typeface="Times New Roman"/>
              </a:rPr>
              <a:t> depicting the Jackson Laboratory in a deep night blue alludes to this happy situation by showing two moons: One for Men, and a smaller one for mi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Eventually, at the height of success, when the scientist is rewarded by the recognition  not only of his happy mice but also of his peers, his superiors, his funding officers, and even his sponsors, he feels a presentiment of at least an initial grade of paradise, like being already in this life arrived at the </a:t>
            </a:r>
            <a:r>
              <a:rPr b="0" i="1" lang="de-DE" sz="2400" spc="-1" strike="noStrike">
                <a:solidFill>
                  <a:srgbClr val="000000"/>
                </a:solidFill>
                <a:latin typeface="Times New Roman"/>
              </a:rPr>
              <a:t>Isola degli Beati,</a:t>
            </a:r>
            <a:r>
              <a:rPr b="0" lang="de-DE" sz="2400" spc="-1" strike="noStrike">
                <a:solidFill>
                  <a:srgbClr val="000000"/>
                </a:solidFill>
                <a:latin typeface="Times New Roman"/>
              </a:rPr>
              <a:t> the famous </a:t>
            </a:r>
            <a:r>
              <a:rPr b="0" i="1" lang="de-DE" sz="2400" spc="-1" strike="noStrike">
                <a:solidFill>
                  <a:srgbClr val="000000"/>
                </a:solidFill>
                <a:latin typeface="Times New Roman"/>
              </a:rPr>
              <a:t>Island of the Blessed</a:t>
            </a:r>
            <a:r>
              <a:rPr b="0" lang="de-DE" sz="2400" spc="-1" strike="noStrike">
                <a:solidFill>
                  <a:srgbClr val="000000"/>
                </a:solidFill>
                <a:latin typeface="Times New Roman"/>
              </a:rPr>
              <a:t> of ancient mythology. This last portrait of the Jackson Laboratory in the yellow and blue colors of heaven refers to this most happy and hopefully durable mo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The image “file:///C:/Dokumente%20und%20Einstellungen/cremer/Eigene%20Dateien/Letizia/Bilder/M0605.jpg” cannot be displayed, because it contains errors."/>
          <p:cNvPicPr/>
          <p:nvPr/>
        </p:nvPicPr>
        <p:blipFill>
          <a:blip r:embed="rId1"/>
          <a:stretch/>
        </p:blipFill>
        <p:spPr>
          <a:xfrm>
            <a:off x="600120" y="120600"/>
            <a:ext cx="7943760" cy="6618240"/>
          </a:xfrm>
          <a:prstGeom prst="rect">
            <a:avLst/>
          </a:prstGeom>
          <a:ln w="0">
            <a:noFill/>
          </a:ln>
        </p:spPr>
      </p:pic>
      <p:sp>
        <p:nvSpPr>
          <p:cNvPr id="45" name="Text Box 3"/>
          <p:cNvSpPr/>
          <p:nvPr/>
        </p:nvSpPr>
        <p:spPr>
          <a:xfrm rot="16200000">
            <a:off x="-4410360" y="1896120"/>
            <a:ext cx="952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ckson Dr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The image “file:///C:/Dokumente%20und%20Einstellungen/cremer/Eigene%20Dateien/Letizia/Bilder/M0601.jpg” cannot be displayed, because it contains errors."/>
          <p:cNvPicPr/>
          <p:nvPr/>
        </p:nvPicPr>
        <p:blipFill>
          <a:blip r:embed="rId1"/>
          <a:stretch/>
        </p:blipFill>
        <p:spPr>
          <a:xfrm>
            <a:off x="149400" y="120600"/>
            <a:ext cx="8847000" cy="6618240"/>
          </a:xfrm>
          <a:prstGeom prst="rect">
            <a:avLst/>
          </a:prstGeom>
          <a:ln w="0">
            <a:noFill/>
          </a:ln>
        </p:spPr>
      </p:pic>
      <p:sp>
        <p:nvSpPr>
          <p:cNvPr id="47" name="Text Box 3"/>
          <p:cNvSpPr/>
          <p:nvPr/>
        </p:nvSpPr>
        <p:spPr>
          <a:xfrm flipV="1" rot="10800000">
            <a:off x="-360" y="623268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mpest of Sc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The image “file:///C:/Dokumente%20und%20Einstellungen/cremer/Eigene%20Dateien/Letizia/Bilder/M0608.jpg” cannot be displayed, because it contains errors."/>
          <p:cNvPicPr/>
          <p:nvPr/>
        </p:nvPicPr>
        <p:blipFill>
          <a:blip r:embed="rId1"/>
          <a:stretch/>
        </p:blipFill>
        <p:spPr>
          <a:xfrm>
            <a:off x="611280" y="120600"/>
            <a:ext cx="7921440" cy="6618240"/>
          </a:xfrm>
          <a:prstGeom prst="rect">
            <a:avLst/>
          </a:prstGeom>
          <a:ln w="0">
            <a:noFill/>
          </a:ln>
        </p:spPr>
      </p:pic>
      <p:sp>
        <p:nvSpPr>
          <p:cNvPr id="49" name="Text Box 3"/>
          <p:cNvSpPr/>
          <p:nvPr/>
        </p:nvSpPr>
        <p:spPr>
          <a:xfrm rot="16200000">
            <a:off x="-2124360" y="418212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ssion of Sc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The image “file:///C:/Dokumente%20und%20Einstellungen/cremer/Eigene%20Dateien/Letizia/Bilder/M0607.jpg” cannot be displayed, because it contains errors."/>
          <p:cNvPicPr/>
          <p:nvPr/>
        </p:nvPicPr>
        <p:blipFill>
          <a:blip r:embed="rId1"/>
          <a:stretch/>
        </p:blipFill>
        <p:spPr>
          <a:xfrm>
            <a:off x="623880" y="120600"/>
            <a:ext cx="7897680" cy="6618240"/>
          </a:xfrm>
          <a:prstGeom prst="rect">
            <a:avLst/>
          </a:prstGeom>
          <a:ln w="0">
            <a:noFill/>
          </a:ln>
        </p:spPr>
      </p:pic>
      <p:sp>
        <p:nvSpPr>
          <p:cNvPr id="51" name="Text Box 3"/>
          <p:cNvSpPr/>
          <p:nvPr/>
        </p:nvSpPr>
        <p:spPr>
          <a:xfrm rot="16200000">
            <a:off x="-2696040" y="3381480"/>
            <a:ext cx="609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ney Moon for Men &amp; M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file:///C:/Dokumente%20und%20Einstellungen/cremer/Eigene%20Dateien/Letizia/Bilder/M0609.jpg” cannot be displayed, because it contains errors."/>
          <p:cNvPicPr/>
          <p:nvPr/>
        </p:nvPicPr>
        <p:blipFill>
          <a:blip r:embed="rId1"/>
          <a:stretch/>
        </p:blipFill>
        <p:spPr>
          <a:xfrm>
            <a:off x="582480" y="120600"/>
            <a:ext cx="7979040" cy="6618240"/>
          </a:xfrm>
          <a:prstGeom prst="rect">
            <a:avLst/>
          </a:prstGeom>
          <a:ln w="0">
            <a:noFill/>
          </a:ln>
        </p:spPr>
      </p:pic>
      <p:sp>
        <p:nvSpPr>
          <p:cNvPr id="53" name="Text Box 3"/>
          <p:cNvSpPr/>
          <p:nvPr/>
        </p:nvSpPr>
        <p:spPr>
          <a:xfrm rot="16200000">
            <a:off x="-2810160" y="3267720"/>
            <a:ext cx="632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sola degli Beati – Island of the Bles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7:42Z</dcterms:created>
  <dc:creator>C. Cremer</dc:creator>
  <dc:description/>
  <dc:language>en-US</dc:language>
  <cp:lastModifiedBy>Uti</cp:lastModifiedBy>
  <dcterms:modified xsi:type="dcterms:W3CDTF">2007-05-30T10:26:29Z</dcterms:modified>
  <cp:revision>26</cp:revision>
  <dc:subject/>
  <dc:title>PowerPoint-Präsentation</dc:title>
</cp:coreProperties>
</file>